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B188-566B-4C6B-A142-E8E4056344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E39E-67F4-49F3-9409-B22BAC00135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8F3D-B913-45B1-BC6A-D09A589990F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80F0-3969-42C7-9993-B43B2E064DC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CAB5-95BE-4EE0-97D0-8F730E02620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6492-C442-44D7-9677-D2622763BD8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5028-4A64-48D8-BC9B-D285BC6A92D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C54F-6E9B-4689-93DC-6458A2B4800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DC97-2869-4F50-9490-19A72FA9656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DFD3-61FC-4160-AEE5-19625892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132A-43DD-4925-BDC4-69201702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B597-FC10-4ACF-85EE-1DD6BE85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112B-133F-4A0A-BB9B-40E20113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8274-7376-4750-9CEE-846E72D6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5766-A263-4E34-94B2-342064D4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902B-8C02-48FD-94FF-6F1E27DE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2300-2085-4669-BB91-DD260C3F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B296-6356-4DDA-A131-69B8D016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0846-CFC6-4839-BAF9-ED55D5EA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DEFF-F822-449C-99FF-698B5A90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E817-E10E-4AAF-A729-3EF4C87D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1CA8-87EF-4659-93E8-D84590C2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55B6-F7D2-40A1-97C3-93134126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3FA6-07F6-4338-8E69-4BEFF759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B5BB-967F-4EC2-9B8D-D161156D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D4DB-55D4-4FC6-94BC-1457295A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265F-3F86-4BA0-90F2-09DAAB93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4CB9-52A9-4BB8-94F4-52F34044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E860-A0B9-439C-A4D1-4EB31E74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F50E-6D0B-42A8-BAE0-3182BADA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5F29-EBA2-46E8-B3A4-C09C7D29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3E69-FF99-4588-BCDA-A66FBC31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86F7-20CC-4714-8755-D6C39A7E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EFAF-B3B0-4042-B799-A3BEEE31B51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C810-DBEB-466E-818E-6A79BB1FF58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v.proskurovska@ebf-fbe.eu" TargetMode="External"/><Relationship Id="rId2" Type="http://schemas.openxmlformats.org/officeDocument/2006/relationships/hyperlink" Target="http://www.ebf-fbe.e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uropean Banking Sector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 a period of Global Financial and Economic Cri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Adviser, Economic and Monetary Affairs and Relations with Associates of the European Banking Federation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14800" y="285840"/>
            <a:ext cx="550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10</a:t>
            </a:r>
            <a:r>
              <a:rPr b="1" lang="en-GB" sz="1800" spc="-1" strike="noStrike" baseline="30000">
                <a:solidFill>
                  <a:srgbClr val="005cad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 Inter-Balkan Forum of Banking Association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5cad"/>
                </a:solidFill>
                <a:latin typeface="Arial"/>
              </a:rPr>
              <a:t>16 October 2009 - Sarajevo, Bosnia &amp; Herzegovina</a:t>
            </a:r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9AE0-3054-4048-BC47-CEF19648C72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ignificance of the crisi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vaporation of liquidity in the inter-banking market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ruptcies of financial giants, causing systemic risk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Loss of public trust in the financial sector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eterioration in general economic conditio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 of the government share in the private sector (causing unlevel playing field).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6cc"/>
                </a:solidFill>
                <a:latin typeface="Times New Roman"/>
              </a:rPr>
              <a:t>Global estimated loss</a:t>
            </a:r>
            <a:r>
              <a:rPr b="0" lang="fr-FR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D 3.4 trillion (about € 2.3 trillion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GDP might fall by 4% in 2009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 GDP may decrease 2.6% in 2009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ban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flect on their weakness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duce their costs and improve retur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lean-up their balance shee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dapt their business strategi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E9CC-F47F-497A-BAD0-031361AAA03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the ECB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and national govern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re liquidity and capital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-area Governments committed about 35% of GDP to financial sector support measur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system’s balance sheet had almost doubled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gative consequen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d public ownership in the EU banking secto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2B8E-B82B-43AA-88D4-CC369BE301D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gulatory response by the European Commis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Commission is working on the body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legislation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n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ory architecture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apital requiremen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ccounting principl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muneration polici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edge funds, UCITS, etc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o ensure the right incentives, reduce gold-plating, and strengthen risk management and prudential oversight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9C85-F998-43F0-A72C-AFA3A714166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e EURO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enefit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f euro membership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confidence in the currency (avoid sharp devaluation during crisis)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CB measures to enhance market liquidity enabled euro area countries to avoid a credit squeeze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halleng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Differences in the pricing of euro member countries’ debt and credit default insurance have widened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A784-6398-472D-9B24-32F04259A43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nclu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urrent EU-level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ioriti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ar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ed for effective 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government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exit strateg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CB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facilitating the working of financial market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U authoritie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finalise their proposal for the Regulation on banking supervision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bank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their operations while reforming internal procedures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88A3-B455-4A88-A513-9A914725411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Thank you!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For contacts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dviser in Economic and Monetary Affairs, Associates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European Banking Federat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ebf-fbe.eu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C780-B9DB-42B4-883B-346C5B9110D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9:21:47Z</dcterms:created>
  <dc:creator>Viktorija Proskurovska</dc:creator>
  <dc:description/>
  <dc:language>en-US</dc:language>
  <cp:lastModifiedBy>Viktorija Proskurovska</cp:lastModifiedBy>
  <dcterms:modified xsi:type="dcterms:W3CDTF">2009-10-09T13:05:37Z</dcterms:modified>
  <cp:revision>16</cp:revision>
  <dc:subject/>
  <dc:title>Европейский банковский сектор  в период глобального финансово-экономического кризиса</dc:title>
</cp:coreProperties>
</file>